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939-4972-4332-B7F4-D05D9D45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C28-7336-43F6-BFEC-68AB0A51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4C4A-C0F4-4673-A861-4F274362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8CC-29DC-4CC8-ABC0-D77CB8FF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7303-1412-4585-A864-85961A31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5881-09F1-4E0A-997A-8CFC9160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E277-D399-4604-AF86-F6F32A5C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383-4979-453E-951E-00108230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2587-7EC4-4950-900A-0FFD375F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5E27-5180-44F4-AE30-500464FE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912-204B-46C8-9519-F211DA09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616-54FB-47FA-8DBF-8068E789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316A-DA38-4885-882D-307AC350E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estiopolis.com/economia/importancia-de-la-identidad-personal-y-social.htm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ommons.wikimedia.org/wiki/File:La_familia_de_Carlos_IV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c090"/>
                </a:solidFill>
                <a:latin typeface="Comic Sans MS"/>
              </a:rPr>
              <a:t>RETRA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p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tipo de arte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éner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De qué género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ripc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colores ves en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Cómo es ____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hacen las personas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in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opinas de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da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e46c0a"/>
                </a:solidFill>
                <a:latin typeface="Comic Sans MS"/>
              </a:rPr>
              <a:t>identidad person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e46c0a"/>
                </a:solidFill>
                <a:latin typeface="Comic Sans MS"/>
              </a:rPr>
              <a:t>identificación soc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joann\Pictures\Microsoft Clip Organizer\j0441428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53280" y="59436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37720" y="44197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6c0a"/>
                </a:solidFill>
                <a:latin typeface="Comic Sans MS"/>
              </a:rPr>
              <a:t>¿Qué es el retrato pictóric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mini familia de Carlos V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685800"/>
            <a:ext cx="4267080" cy="3478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joann\Pictures\Microsoft Clip Organizer\j0441429.png"/>
          <p:cNvPicPr/>
          <p:nvPr/>
        </p:nvPicPr>
        <p:blipFill>
          <a:blip r:embed="rId4"/>
          <a:stretch/>
        </p:blipFill>
        <p:spPr>
          <a:xfrm>
            <a:off x="7848720" y="5867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6"/>
          <p:cNvSpPr/>
          <p:nvPr/>
        </p:nvSpPr>
        <p:spPr>
          <a:xfrm>
            <a:off x="6735240" y="47242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710400" y="411480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ás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ular Callout 13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6678360" y="297180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6687360" y="236232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6617880" y="17524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ular Callout 9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56272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Diego Velázqu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elipe IV a cab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felipe IV.jpg"/>
          <p:cNvPicPr/>
          <p:nvPr/>
        </p:nvPicPr>
        <p:blipFill>
          <a:blip r:embed="rId1"/>
          <a:stretch/>
        </p:blipFill>
        <p:spPr>
          <a:xfrm>
            <a:off x="1066680" y="1752480"/>
            <a:ext cx="35560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numento a Goy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5" descr="800px-Zaragoza-Goya.jpg"/>
          <p:cNvPicPr/>
          <p:nvPr/>
        </p:nvPicPr>
        <p:blipFill>
          <a:blip r:embed="rId1"/>
          <a:stretch/>
        </p:blipFill>
        <p:spPr>
          <a:xfrm>
            <a:off x="1143000" y="1752480"/>
            <a:ext cx="2962440" cy="403884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5715000" y="1066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Federico Ma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ular Callout 7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6635520" y="175248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cul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6754680" y="23623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6710400" y="411480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ás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ular Callout 13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6735240" y="47242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rato de Picas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retrato de picaso.jpg"/>
          <p:cNvPicPr/>
          <p:nvPr/>
        </p:nvPicPr>
        <p:blipFill>
          <a:blip r:embed="rId1"/>
          <a:stretch/>
        </p:blipFill>
        <p:spPr>
          <a:xfrm>
            <a:off x="609480" y="1600200"/>
            <a:ext cx="350532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Rectangular Callout 6"/>
          <p:cNvSpPr/>
          <p:nvPr/>
        </p:nvSpPr>
        <p:spPr>
          <a:xfrm>
            <a:off x="4876920" y="1752480"/>
            <a:ext cx="10666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617880" y="175248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nt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6687360" y="236232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ad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6678360" y="297180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ular Callout 11"/>
          <p:cNvSpPr/>
          <p:nvPr/>
        </p:nvSpPr>
        <p:spPr>
          <a:xfrm>
            <a:off x="4876920" y="4114800"/>
            <a:ext cx="1523880" cy="6858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éne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571500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Juan Gr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6715800" y="411480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6746040" y="47242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6648480" y="5334120"/>
            <a:ext cx="17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r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dad / identific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¿En los retratos, se puede ver una influencia de </a:t>
            </a:r>
            <a:r>
              <a:rPr b="0" lang="es-ES_tradnl" sz="4000" spc="-1" strike="noStrike">
                <a:solidFill>
                  <a:srgbClr val="e46c0a"/>
                </a:solidFill>
                <a:latin typeface="Calibri"/>
              </a:rPr>
              <a:t>la identidad personal 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s-ES_tradnl" sz="4000" spc="-1" strike="noStrike">
                <a:solidFill>
                  <a:srgbClr val="e46c0a"/>
                </a:solidFill>
                <a:latin typeface="Calibri"/>
              </a:rPr>
              <a:t>la identificación social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?  ¿Por qué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457200" y="403848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¿Tienes</a:t>
            </a:r>
            <a:r>
              <a:rPr b="0" lang="en-US" sz="4000" spc="-1" strike="noStrike">
                <a:solidFill>
                  <a:srgbClr val="e46c0a"/>
                </a:solidFill>
                <a:latin typeface="Comic Sans MS"/>
              </a:rPr>
              <a:t> idenificación soci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533520" y="5181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omic Sans MS"/>
              </a:rPr>
              <a:t>Tarea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hacer una descripción de 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ES_tradnl" sz="3600" spc="-1" strike="noStrike">
                <a:solidFill>
                  <a:srgbClr val="000000"/>
                </a:solidFill>
                <a:latin typeface="Calibri"/>
              </a:rPr>
              <a:t>La familia de Carlos 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2:55:04Z</dcterms:created>
  <dc:creator>joann</dc:creator>
  <dc:description/>
  <dc:language>en-US</dc:language>
  <cp:lastModifiedBy>joann</cp:lastModifiedBy>
  <dcterms:modified xsi:type="dcterms:W3CDTF">2010-02-24T11:32:13Z</dcterms:modified>
  <cp:revision>59</cp:revision>
  <dc:subject/>
  <dc:title>Slide 1</dc:title>
</cp:coreProperties>
</file>